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40328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解方程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476165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76166"/>
          <p:cNvSpPr/>
          <p:nvPr/>
        </p:nvSpPr>
        <p:spPr>
          <a:xfrm>
            <a:off x="3616560" y="4797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20840" y="3083040"/>
            <a:ext cx="8038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55640" y="5516640"/>
            <a:ext cx="72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请你运用等式的性质解方程，并具体说说你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476360" y="1773360"/>
            <a:ext cx="6767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解方程。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.2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.6           1.6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6.4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.8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              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.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148360" y="458136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78213"/>
          <p:cNvSpPr/>
          <p:nvPr/>
        </p:nvSpPr>
        <p:spPr>
          <a:xfrm>
            <a:off x="2380680" y="2409840"/>
            <a:ext cx="1499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.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78214"/>
          <p:cNvSpPr/>
          <p:nvPr/>
        </p:nvSpPr>
        <p:spPr>
          <a:xfrm>
            <a:off x="5199840" y="2409840"/>
            <a:ext cx="118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78215"/>
          <p:cNvSpPr/>
          <p:nvPr/>
        </p:nvSpPr>
        <p:spPr>
          <a:xfrm>
            <a:off x="2373840" y="3773520"/>
            <a:ext cx="13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5.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78216"/>
          <p:cNvSpPr/>
          <p:nvPr/>
        </p:nvSpPr>
        <p:spPr>
          <a:xfrm>
            <a:off x="5276520" y="3767040"/>
            <a:ext cx="13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1c1c1c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6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78218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78219"/>
          <p:cNvSpPr/>
          <p:nvPr/>
        </p:nvSpPr>
        <p:spPr>
          <a:xfrm>
            <a:off x="1887840" y="465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78220"/>
          <p:cNvSpPr/>
          <p:nvPr/>
        </p:nvSpPr>
        <p:spPr>
          <a:xfrm>
            <a:off x="2103480" y="486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78221"/>
          <p:cNvSpPr/>
          <p:nvPr/>
        </p:nvSpPr>
        <p:spPr>
          <a:xfrm>
            <a:off x="2319480" y="5084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78222"/>
          <p:cNvSpPr/>
          <p:nvPr/>
        </p:nvSpPr>
        <p:spPr>
          <a:xfrm>
            <a:off x="2535480" y="5300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78223"/>
          <p:cNvSpPr/>
          <p:nvPr/>
        </p:nvSpPr>
        <p:spPr>
          <a:xfrm>
            <a:off x="2751480" y="5516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755640" y="4581360"/>
            <a:ext cx="69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试着用不同的方法解这个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95280" y="1557360"/>
            <a:ext cx="51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合作交流，解决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124000" y="285264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c1c1c"/>
                </a:solidFill>
                <a:latin typeface="Arial"/>
                <a:ea typeface="宋体"/>
              </a:rPr>
              <a:t>解方程  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547640" y="515772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遇到了什么困难？请你和同学讨论一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79239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55640" y="4581360"/>
            <a:ext cx="66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解方程的每一步，找找问题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合作交流，解决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836720" y="2421000"/>
            <a:ext cx="6767640" cy="1655640"/>
            <a:chOff x="1836720" y="2421000"/>
            <a:chExt cx="6767640" cy="1655640"/>
          </a:xfrm>
        </p:grpSpPr>
        <p:sp>
          <p:nvSpPr>
            <p:cNvPr id="67" name="Rectangle 2"/>
            <p:cNvSpPr/>
            <p:nvPr/>
          </p:nvSpPr>
          <p:spPr>
            <a:xfrm>
              <a:off x="3389400" y="242100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2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"/>
            <p:cNvSpPr/>
            <p:nvPr/>
          </p:nvSpPr>
          <p:spPr>
            <a:xfrm>
              <a:off x="1836720" y="2924280"/>
              <a:ext cx="43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2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20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9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"/>
            <p:cNvSpPr/>
            <p:nvPr/>
          </p:nvSpPr>
          <p:spPr>
            <a:xfrm>
              <a:off x="4213080" y="3500640"/>
              <a:ext cx="43912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9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20  </a:t>
              </a:r>
              <a:r>
                <a:rPr b="0" lang="zh-CN" sz="30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2"/>
          <p:cNvSpPr/>
          <p:nvPr/>
        </p:nvSpPr>
        <p:spPr>
          <a:xfrm>
            <a:off x="1692360" y="5084640"/>
            <a:ext cx="66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提示：可以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口算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多少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47640" y="5589720"/>
            <a:ext cx="273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样调整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80267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55640" y="4869000"/>
            <a:ext cx="81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步为什么要在方程两边加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合作交流，解决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547640" y="5722920"/>
            <a:ext cx="66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步与第三步有什么不同？为什么要这样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547640" y="6143760"/>
            <a:ext cx="669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方程的解吗？请你检验一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430000" y="5321160"/>
            <a:ext cx="32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四步方程两边为什么不减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而是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525760" y="206064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379680" y="4378320"/>
            <a:ext cx="163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1c1c1c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2563920"/>
            <a:ext cx="439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c1c1c"/>
                </a:solidFill>
                <a:latin typeface="Arial"/>
                <a:ea typeface="宋体"/>
              </a:rPr>
              <a:t>解：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3110040" y="3052800"/>
            <a:ext cx="43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757600" y="3475080"/>
            <a:ext cx="43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81240" y="3956040"/>
            <a:ext cx="43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5075280" y="1916280"/>
            <a:ext cx="3600360" cy="936360"/>
          </a:xfrm>
          <a:prstGeom prst="wedgeRoundRectCallout">
            <a:avLst>
              <a:gd name="adj1" fmla="val -56305"/>
              <a:gd name="adj2" fmla="val 4084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式两边加上相同的式子，左右两边仍然相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81294"/>
          <p:cNvSpPr/>
          <p:nvPr/>
        </p:nvSpPr>
        <p:spPr>
          <a:xfrm>
            <a:off x="6011640" y="2978280"/>
            <a:ext cx="2140200" cy="1465560"/>
          </a:xfrm>
          <a:prstGeom prst="rect">
            <a:avLst/>
          </a:prstGeom>
          <a:solidFill>
            <a:srgbClr val="bbe0e3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程左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br>
              <a:rPr sz="18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程右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以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方程的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755640" y="508464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今天学的解方程与以前解决的方程进行比较，有什么不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对比反思，总结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790640" y="211932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644920" y="4437000"/>
            <a:ext cx="171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52520" y="2622600"/>
            <a:ext cx="43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c1c1c"/>
                </a:solidFill>
                <a:latin typeface="Arial"/>
                <a:ea typeface="宋体"/>
              </a:rPr>
              <a:t>解：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384280" y="3111480"/>
            <a:ext cx="43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022480" y="3533760"/>
            <a:ext cx="439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446120" y="4014720"/>
            <a:ext cx="43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9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547640" y="5589720"/>
            <a:ext cx="669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认为在解这样的方程时需要注意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5942160" y="2133720"/>
            <a:ext cx="25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1.8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6889680" y="307332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5.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289400" y="2660760"/>
            <a:ext cx="475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c1c1c"/>
                </a:solidFill>
                <a:latin typeface="Arial"/>
                <a:ea typeface="宋体"/>
              </a:rPr>
              <a:t>解：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－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1.8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1.8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1.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55640" y="5157720"/>
            <a:ext cx="7129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上节课在根据数量关系列出方程时，有的同学是这样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的，当时不太会解。你现在会用等式的性质解这个方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程了吗？请你试一试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32000" y="4371840"/>
            <a:ext cx="41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84360" y="1628640"/>
            <a:ext cx="56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解方程。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483333" descr="未标题-1"/>
          <p:cNvPicPr/>
          <p:nvPr/>
        </p:nvPicPr>
        <p:blipFill>
          <a:blip r:embed="rId2"/>
          <a:stretch/>
        </p:blipFill>
        <p:spPr>
          <a:xfrm>
            <a:off x="1119240" y="2133720"/>
            <a:ext cx="5757840" cy="1798560"/>
          </a:xfrm>
          <a:prstGeom prst="rect">
            <a:avLst/>
          </a:prstGeom>
          <a:ln w="0">
            <a:noFill/>
          </a:ln>
        </p:spPr>
      </p:pic>
      <p:sp>
        <p:nvSpPr>
          <p:cNvPr id="105" name="矩形 483334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4360" y="1344600"/>
            <a:ext cx="568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解方程。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826920" y="551664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解方程的第一步两边要乘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619280" y="602136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学会解方程了吗？和同学讨论一下，解方程时要注意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6720" y="2708280"/>
            <a:ext cx="5938920" cy="2808360"/>
            <a:chOff x="1836720" y="2708280"/>
            <a:chExt cx="5938920" cy="2808360"/>
          </a:xfrm>
        </p:grpSpPr>
        <p:sp>
          <p:nvSpPr>
            <p:cNvPr id="111" name="Rectangle 7"/>
            <p:cNvSpPr/>
            <p:nvPr/>
          </p:nvSpPr>
          <p:spPr>
            <a:xfrm>
              <a:off x="1836720" y="2708280"/>
              <a:ext cx="5472000" cy="280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2268360" y="2708280"/>
              <a:ext cx="47721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3203640" y="4243320"/>
              <a:ext cx="457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4410000" y="4724280"/>
              <a:ext cx="128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3987720" y="3740040"/>
              <a:ext cx="1608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4360" y="1403280"/>
            <a:ext cx="56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列方程并解答。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826920" y="573408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请你根据数量关系列出不同的方程，并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50560" y="2133720"/>
            <a:ext cx="4466160" cy="1846080"/>
            <a:chOff x="2050560" y="2133720"/>
            <a:chExt cx="4466160" cy="1846080"/>
          </a:xfrm>
        </p:grpSpPr>
        <p:sp>
          <p:nvSpPr>
            <p:cNvPr id="120" name="Line 6"/>
            <p:cNvSpPr/>
            <p:nvPr/>
          </p:nvSpPr>
          <p:spPr>
            <a:xfrm>
              <a:off x="2057040" y="3068640"/>
              <a:ext cx="445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205704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356760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>
              <a:off x="507708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0"/>
            <p:cNvSpPr/>
            <p:nvPr/>
          </p:nvSpPr>
          <p:spPr>
            <a:xfrm>
              <a:off x="651672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"/>
            <p:cNvSpPr/>
            <p:nvPr/>
          </p:nvSpPr>
          <p:spPr>
            <a:xfrm flipV="1" rot="16200000">
              <a:off x="4100760" y="1085040"/>
              <a:ext cx="358560" cy="445932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115920 h 4459320"/>
                <a:gd name="textAreaBottom" fmla="*/ 4343400 h 44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6"/>
                  </a:cubicBezTo>
                  <a:lnTo>
                    <a:pt x="10800" y="9021"/>
                  </a:lnTo>
                  <a:cubicBezTo>
                    <a:pt x="10800" y="9919"/>
                    <a:pt x="5400" y="10817"/>
                    <a:pt x="0" y="10817"/>
                  </a:cubicBezTo>
                  <a:cubicBezTo>
                    <a:pt x="5400" y="10817"/>
                    <a:pt x="10800" y="11715"/>
                    <a:pt x="10800" y="12613"/>
                  </a:cubicBezTo>
                  <a:lnTo>
                    <a:pt x="10800" y="19804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2"/>
            <p:cNvSpPr/>
            <p:nvPr/>
          </p:nvSpPr>
          <p:spPr>
            <a:xfrm>
              <a:off x="3712320" y="3429000"/>
              <a:ext cx="2012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.6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2418480" y="2133720"/>
              <a:ext cx="93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3999240" y="2133720"/>
              <a:ext cx="933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5437080" y="2133720"/>
              <a:ext cx="933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68360" y="4076640"/>
            <a:ext cx="4390920" cy="1546200"/>
            <a:chOff x="2268360" y="4076640"/>
            <a:chExt cx="4390920" cy="1546200"/>
          </a:xfrm>
        </p:grpSpPr>
        <p:sp>
          <p:nvSpPr>
            <p:cNvPr id="131" name="Rectangle 2"/>
            <p:cNvSpPr/>
            <p:nvPr/>
          </p:nvSpPr>
          <p:spPr>
            <a:xfrm>
              <a:off x="3606480" y="407664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2.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"/>
            <p:cNvSpPr/>
            <p:nvPr/>
          </p:nvSpPr>
          <p:spPr>
            <a:xfrm>
              <a:off x="3860640" y="5046480"/>
              <a:ext cx="1711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.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"/>
            <p:cNvSpPr/>
            <p:nvPr/>
          </p:nvSpPr>
          <p:spPr>
            <a:xfrm>
              <a:off x="2268360" y="4579920"/>
              <a:ext cx="43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2.6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485396"/>
          <p:cNvSpPr/>
          <p:nvPr/>
        </p:nvSpPr>
        <p:spPr>
          <a:xfrm>
            <a:off x="167184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85397"/>
          <p:cNvSpPr/>
          <p:nvPr/>
        </p:nvSpPr>
        <p:spPr>
          <a:xfrm>
            <a:off x="1887840" y="4653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3T02:05:11Z</dcterms:created>
  <dc:creator>Administrator</dc:creator>
  <dc:description/>
  <dc:language>en-US</dc:language>
  <cp:lastModifiedBy/>
  <dcterms:modified xsi:type="dcterms:W3CDTF">2018-09-03T03:16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